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12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8E32-CB6F-47F4-BB1F-5C608B229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1771-37AD-4945-BCE3-D1E0848DB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BD81-5E0C-4B1B-969F-3BDA1FB73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1FD3-7157-42E1-9F9B-7CA48FA94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D004-7A96-4240-A221-2AAF29A9D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FF14-4888-462B-A38B-9C4EF9C31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7F54-373E-4D46-B75E-DF1C44563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C3AE-F341-4AC4-B74E-484082979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6C02-3257-4F75-8BAC-8C4EBAE9D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A27F-B883-4695-8E4E-E70FBCD31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88DE-229F-4EC3-8713-626111E72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1F60-F05B-4F4F-BDF4-5EBDE64E4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84BB-7955-460E-A344-3577B6E3D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D509-C5FB-48AB-8A0E-874EB9079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00FF-5292-4761-98D7-1A945F0A7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18D4-E48A-4D6E-927D-D44D8492F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E745-F481-416F-8956-8B9FC6A88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0AED-6AF2-4AEA-8A3C-690E416E2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EC50-669A-4ECA-93B8-2A9EB20B9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DB34-09E9-4DC6-8996-05C121ABD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34C3-F6A6-4A82-A626-DB67A2041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C6F9-292D-4A49-B08D-DD975085C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938D-372E-48F3-83C1-9AA866C63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3679-9922-4B0F-9BF6-71E3940AF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D4FE-F716-4B97-8B21-4A1CBE717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DBA2-FC14-4D44-B6D4-A20151BA2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967E-B28C-40A1-AAAC-8CECF635D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D17D-3DAA-44C5-951F-C1F2C42AE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8A65-DEA4-4DE8-A8F2-9493216D7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AFAD-E859-4B81-A98D-98578AAE8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7D0B-6E10-4F31-925B-B8D5B7D66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A6B4-627E-4A2E-AE2C-8AD91A05E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D158-23F6-4095-BE90-C068FF37D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009F-2AA4-46D8-A142-C2A462A58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1989-4660-484A-A606-D7D19C4A2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74F7-213E-4A31-A441-8456AA24F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540B-F8D0-4815-B7C6-F53624B2D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C578-F859-4EED-A523-FD973B9D4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FB51-4303-494F-8FEC-ACA9D60B5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4ACC-C119-40B5-8C01-E47775973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C84B-CEAA-4218-A7A4-EA41D9262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75B1-3297-4A45-AAB3-824E9A2C9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D17D-C808-445E-88F7-78069BCC1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3DBE-CCA1-4511-8FA2-2E0626AAA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6221-C28D-4E23-AE82-93E30DD65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56F7-6AFE-4209-922A-88F9C6371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CA8FF-E9F4-467A-AF6A-C85ED802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EBAA5-7FB3-411E-B065-2A2C418F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989A0-56AB-490C-B283-F79D03CB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8942C-2EC9-4D36-8A93-7A392752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6AC27-47AE-4726-94DD-5D4B270F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10C10-2D10-44A3-A43C-FFF55A7A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5A8D7-3B96-47A1-8146-FFC363D9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31738-BFB6-47B0-A467-BA52AB26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1FB8B-8DB5-4C60-A5BE-0F42FA9E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63F18-C494-4BD5-81B1-65DBDAA7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4C8F9-381A-4E78-8819-FAE407E3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182F0-BAF0-411C-8496-5FF0B008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83C2-212F-4B6C-8EE5-A392EBF4A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10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5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8024040" y="5913360"/>
              <a:ext cx="86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Chem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Bond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754344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82e3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Chapter 8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Concepts of Chemical Bonding</a:t>
            </a:r>
            <a:endParaRPr b="0" lang="en-US" sz="6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etics of Ionic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y accounting for all three energies (ionization energy, electron affinity, and lattice energy), we can get a good idea of the energetics involved in such a proces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6" name="Picture 5" descr="08_04"/>
          <p:cNvPicPr/>
          <p:nvPr/>
        </p:nvPicPr>
        <p:blipFill>
          <a:blip r:embed="rId1"/>
          <a:srcRect l="0" t="0" r="0" b="3704"/>
          <a:stretch/>
        </p:blipFill>
        <p:spPr>
          <a:xfrm>
            <a:off x="304920" y="1676520"/>
            <a:ext cx="368460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etics of Ionic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3240" y="2514600"/>
            <a:ext cx="41907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se phenomena also helps explain the “octet rule.”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0" name="Picture 6" descr="07_T02cropped2"/>
          <p:cNvPicPr/>
          <p:nvPr/>
        </p:nvPicPr>
        <p:blipFill>
          <a:blip r:embed="rId1"/>
          <a:stretch/>
        </p:blipFill>
        <p:spPr>
          <a:xfrm>
            <a:off x="4572000" y="1828800"/>
            <a:ext cx="3809880" cy="22096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363600" y="4295880"/>
            <a:ext cx="8399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etals, for instance, tend to stop losing electrons once they attain a noble gas configuration because energy would be expended that cannot be overcome by lattice ener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4343400" y="2133720"/>
            <a:ext cx="3657600" cy="1143000"/>
          </a:xfrm>
          <a:prstGeom prst="ellipse">
            <a:avLst/>
          </a:prstGeom>
          <a:noFill/>
          <a:ln w="19080">
            <a:solidFill>
              <a:srgbClr val="c82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ovalent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86200" y="1676160"/>
            <a:ext cx="5029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covalent bonds atoms share elec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 are several electrostatic interactions in these bonds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ttractions between electrons and nuclei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Repulsions between electrons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Repulsions between nuclei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6" name="Picture 5" descr="08_05cropped"/>
          <p:cNvPicPr/>
          <p:nvPr/>
        </p:nvPicPr>
        <p:blipFill>
          <a:blip r:embed="rId1"/>
          <a:stretch/>
        </p:blipFill>
        <p:spPr>
          <a:xfrm>
            <a:off x="685800" y="1600200"/>
            <a:ext cx="318276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olar Covalent Bo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ough atoms often form compounds by sharing electrons, the electrons are not always shared equall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0" name="Picture 7" descr="08_07"/>
          <p:cNvPicPr/>
          <p:nvPr/>
        </p:nvPicPr>
        <p:blipFill>
          <a:blip r:embed="rId1"/>
          <a:srcRect l="0" t="0" r="34001" b="5905"/>
          <a:stretch/>
        </p:blipFill>
        <p:spPr>
          <a:xfrm>
            <a:off x="228600" y="2057400"/>
            <a:ext cx="4495680" cy="20350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380880" y="44197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luorine pulls harder on the electrons it shares with hydrogen than hydrogen d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365040" y="5332320"/>
            <a:ext cx="786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the fluorine end of the molecule has more electron density than the hydrogen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egativit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Electronegativity is the ability of atoms in a molecule to attract electrons to themselv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 the periodic chart, electronegativity increases as you go…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from left to right across a row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from the bottom to the top of a column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6" name="Picture 7" descr="08_06cropped"/>
          <p:cNvPicPr/>
          <p:nvPr/>
        </p:nvPicPr>
        <p:blipFill>
          <a:blip r:embed="rId1"/>
          <a:stretch/>
        </p:blipFill>
        <p:spPr>
          <a:xfrm>
            <a:off x="4648320" y="1854360"/>
            <a:ext cx="4495680" cy="378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08_08"/>
          <p:cNvPicPr/>
          <p:nvPr/>
        </p:nvPicPr>
        <p:blipFill>
          <a:blip r:embed="rId1"/>
          <a:srcRect l="0" t="0" r="0" b="6095"/>
          <a:stretch/>
        </p:blipFill>
        <p:spPr>
          <a:xfrm>
            <a:off x="4952880" y="2759040"/>
            <a:ext cx="4114800" cy="15843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olar Covalent Bo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960" y="1904760"/>
            <a:ext cx="5257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n two atoms share electrons unequally, a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bond dipol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result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dipole momen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produced by two equal but opposite charges separated by a distance,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is calculated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c82e32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measured in debyes (D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olar Covalent Bo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943600" y="1980720"/>
            <a:ext cx="3200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greater the difference in electronegativity, the more polar is the bon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4" name="Picture 9" descr="08_09"/>
          <p:cNvPicPr/>
          <p:nvPr/>
        </p:nvPicPr>
        <p:blipFill>
          <a:blip r:embed="rId1"/>
          <a:srcRect l="0" t="0" r="0" b="8228"/>
          <a:stretch/>
        </p:blipFill>
        <p:spPr>
          <a:xfrm>
            <a:off x="838080" y="4267080"/>
            <a:ext cx="7162920" cy="1773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08_T03"/>
          <p:cNvPicPr/>
          <p:nvPr/>
        </p:nvPicPr>
        <p:blipFill>
          <a:blip r:embed="rId2"/>
          <a:srcRect l="0" t="20580" r="0" b="6777"/>
          <a:stretch/>
        </p:blipFill>
        <p:spPr>
          <a:xfrm>
            <a:off x="304920" y="1905120"/>
            <a:ext cx="5333760" cy="1676160"/>
          </a:xfrm>
          <a:prstGeom prst="rect">
            <a:avLst/>
          </a:prstGeom>
          <a:ln w="0">
            <a:noFill/>
          </a:ln>
        </p:spPr>
      </p:pic>
      <p:sp>
        <p:nvSpPr>
          <p:cNvPr id="126" name="Line 13"/>
          <p:cNvSpPr/>
          <p:nvPr/>
        </p:nvSpPr>
        <p:spPr>
          <a:xfrm>
            <a:off x="533520" y="1916280"/>
            <a:ext cx="4038480" cy="0"/>
          </a:xfrm>
          <a:prstGeom prst="line">
            <a:avLst/>
          </a:prstGeom>
          <a:ln w="38160">
            <a:solidFill>
              <a:srgbClr val="00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Lewis structures are representations of molecules showing all electrons, bonding and nonbonding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0" name="Picture 14" descr="08_05-03UN"/>
          <p:cNvPicPr/>
          <p:nvPr/>
        </p:nvPicPr>
        <p:blipFill>
          <a:blip r:embed="rId1"/>
          <a:srcRect l="0" t="0" r="0" b="16566"/>
          <a:stretch/>
        </p:blipFill>
        <p:spPr>
          <a:xfrm>
            <a:off x="685800" y="2286000"/>
            <a:ext cx="77724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14440" y="17521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ind the sum of valence electrons of all atoms in the polyatomic ion or molecul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If it is an anion, add one electron for each negative charg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If it is a cation, subtract one electron for each positive charg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371600" y="1980720"/>
            <a:ext cx="2286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PCl</a:t>
            </a:r>
            <a:r>
              <a:rPr b="0" lang="en-US" sz="8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221480" y="419112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4"/>
                </a:solidFill>
                <a:latin typeface="Arial"/>
              </a:rPr>
              <a:t>5   +  3(7) =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AutoShape 21"/>
          <p:cNvCxnSpPr>
            <a:stCxn id="135" idx="1"/>
            <a:endCxn id="134" idx="1"/>
          </p:cNvCxnSpPr>
          <p:nvPr/>
        </p:nvCxnSpPr>
        <p:spPr>
          <a:xfrm flipH="1" rot="10800000">
            <a:off x="1218240" y="2818800"/>
            <a:ext cx="153000" cy="1662840"/>
          </a:xfrm>
          <a:prstGeom prst="curvedConnector5">
            <a:avLst>
              <a:gd name="adj1" fmla="val -270754"/>
              <a:gd name="adj2" fmla="val 50000"/>
              <a:gd name="adj3" fmla="val -270754"/>
            </a:avLst>
          </a:prstGeom>
          <a:ln w="9360">
            <a:solidFill>
              <a:srgbClr val="001964"/>
            </a:solidFill>
            <a:miter/>
            <a:tailEnd len="med" type="triangle" w="med"/>
          </a:ln>
        </p:spPr>
      </p:cxnSp>
      <p:sp>
        <p:nvSpPr>
          <p:cNvPr id="137" name="Freeform 25"/>
          <p:cNvSpPr/>
          <p:nvPr/>
        </p:nvSpPr>
        <p:spPr>
          <a:xfrm>
            <a:off x="2895480" y="2662200"/>
            <a:ext cx="1122480" cy="1604880"/>
          </a:xfrm>
          <a:custGeom>
            <a:avLst/>
            <a:gdLst/>
            <a:ahLst/>
            <a:rect l="l" t="t" r="r" b="b"/>
            <a:pathLst>
              <a:path w="707" h="1011">
                <a:moveTo>
                  <a:pt x="0" y="1011"/>
                </a:moveTo>
                <a:cubicBezTo>
                  <a:pt x="102" y="929"/>
                  <a:pt x="523" y="675"/>
                  <a:pt x="615" y="521"/>
                </a:cubicBezTo>
                <a:cubicBezTo>
                  <a:pt x="707" y="367"/>
                  <a:pt x="627" y="172"/>
                  <a:pt x="553" y="86"/>
                </a:cubicBezTo>
                <a:cubicBezTo>
                  <a:pt x="479" y="0"/>
                  <a:pt x="248" y="20"/>
                  <a:pt x="168" y="3"/>
                </a:cubicBezTo>
              </a:path>
            </a:pathLst>
          </a:custGeom>
          <a:noFill/>
          <a:ln w="9360">
            <a:solidFill>
              <a:srgbClr val="00196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central atom is th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electronegative element that isn’t hydrogen.  Connect the outer atoms to it by single bond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02760" y="5105520"/>
            <a:ext cx="451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eep track of the electr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64"/>
                </a:solidFill>
                <a:latin typeface="Arial"/>
              </a:rPr>
              <a:t>26 - 6 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none"/>
          <p:cNvPicPr/>
          <p:nvPr/>
        </p:nvPicPr>
        <p:blipFill>
          <a:blip r:embed="rId1"/>
          <a:stretch/>
        </p:blipFill>
        <p:spPr>
          <a:xfrm>
            <a:off x="152280" y="2362320"/>
            <a:ext cx="4332240" cy="274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6" descr="08_01covalent"/>
          <p:cNvPicPr/>
          <p:nvPr/>
        </p:nvPicPr>
        <p:blipFill>
          <a:blip r:embed="rId1"/>
          <a:stretch/>
        </p:blipFill>
        <p:spPr>
          <a:xfrm>
            <a:off x="2209680" y="3200400"/>
            <a:ext cx="2075040" cy="1833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08_01covalenttrans"/>
          <p:cNvPicPr/>
          <p:nvPr/>
        </p:nvPicPr>
        <p:blipFill>
          <a:blip r:embed="rId2"/>
          <a:stretch/>
        </p:blipFill>
        <p:spPr>
          <a:xfrm>
            <a:off x="2209680" y="3200400"/>
            <a:ext cx="2075040" cy="1833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emical Bo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86200" y="1676160"/>
            <a:ext cx="457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ree basic types of bond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onic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lectrostatic attraction between ions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ovalent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Sharing of electrons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etallic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Metal atoms bonded to several other atoms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8" name="Picture 8" descr="08_01covalent"/>
          <p:cNvPicPr/>
          <p:nvPr/>
        </p:nvPicPr>
        <p:blipFill>
          <a:blip r:embed="rId3"/>
          <a:stretch/>
        </p:blipFill>
        <p:spPr>
          <a:xfrm>
            <a:off x="380880" y="1598760"/>
            <a:ext cx="1938600" cy="1830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08_01ionictrans"/>
          <p:cNvPicPr/>
          <p:nvPr/>
        </p:nvPicPr>
        <p:blipFill>
          <a:blip r:embed="rId4"/>
          <a:stretch/>
        </p:blipFill>
        <p:spPr>
          <a:xfrm>
            <a:off x="380880" y="1587600"/>
            <a:ext cx="1938600" cy="1830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08_01metallic"/>
          <p:cNvPicPr/>
          <p:nvPr/>
        </p:nvPicPr>
        <p:blipFill>
          <a:blip r:embed="rId5"/>
          <a:stretch/>
        </p:blipFill>
        <p:spPr>
          <a:xfrm>
            <a:off x="380880" y="4800600"/>
            <a:ext cx="1938600" cy="1830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ill the octets of the outer atom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46" name="Picture 7" descr="outer"/>
          <p:cNvPicPr/>
          <p:nvPr/>
        </p:nvPicPr>
        <p:blipFill>
          <a:blip r:embed="rId1"/>
          <a:stretch/>
        </p:blipFill>
        <p:spPr>
          <a:xfrm>
            <a:off x="152280" y="2362320"/>
            <a:ext cx="4332240" cy="27478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8"/>
          <p:cNvSpPr/>
          <p:nvPr/>
        </p:nvSpPr>
        <p:spPr>
          <a:xfrm>
            <a:off x="302760" y="5105520"/>
            <a:ext cx="451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eep track of the electr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64"/>
                </a:solidFill>
                <a:latin typeface="Arial"/>
              </a:rPr>
              <a:t>26 - 6 = 20; 20 - 18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ill the octet of the central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51" name="Picture 5" descr="full"/>
          <p:cNvPicPr/>
          <p:nvPr/>
        </p:nvPicPr>
        <p:blipFill>
          <a:blip r:embed="rId1"/>
          <a:stretch/>
        </p:blipFill>
        <p:spPr>
          <a:xfrm>
            <a:off x="152280" y="2362320"/>
            <a:ext cx="4332240" cy="27478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301680" y="5105520"/>
            <a:ext cx="53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eep track of the electr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64"/>
                </a:solidFill>
                <a:latin typeface="Arial"/>
              </a:rPr>
              <a:t>26 - 6 = 20; 20 - 18 = 2; 2 - 2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90760" y="1980720"/>
            <a:ext cx="47242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you run out of electrons before the central atom has an octet…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m multiple bonds until it do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56" name="Picture 8" descr="08_09-05UNEx8-7"/>
          <p:cNvPicPr/>
          <p:nvPr/>
        </p:nvPicPr>
        <p:blipFill>
          <a:blip r:embed="rId1"/>
          <a:srcRect l="0" t="0" r="0" b="10914"/>
          <a:stretch/>
        </p:blipFill>
        <p:spPr>
          <a:xfrm>
            <a:off x="228600" y="2590920"/>
            <a:ext cx="3886200" cy="996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08_09-06UNEx8-7"/>
          <p:cNvPicPr/>
          <p:nvPr/>
        </p:nvPicPr>
        <p:blipFill>
          <a:blip r:embed="rId2"/>
          <a:srcRect l="0" t="0" r="0" b="15460"/>
          <a:stretch/>
        </p:blipFill>
        <p:spPr>
          <a:xfrm>
            <a:off x="685800" y="4938840"/>
            <a:ext cx="7315200" cy="1089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19040" y="18288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n assign formal charg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For each atom, count the electrons in lone pairs and half the electrons it shares with other atoms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Subtract that from the number of valence electrons for that atom:  the difference is its formal charg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61" name="Picture 7" descr="08_09-10UN"/>
          <p:cNvPicPr/>
          <p:nvPr/>
        </p:nvPicPr>
        <p:blipFill>
          <a:blip r:embed="rId1"/>
          <a:srcRect l="0" t="0" r="0" b="10974"/>
          <a:stretch/>
        </p:blipFill>
        <p:spPr>
          <a:xfrm>
            <a:off x="380880" y="4281480"/>
            <a:ext cx="7772400" cy="173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2" descr="Withcharges"/>
          <p:cNvPicPr/>
          <p:nvPr/>
        </p:nvPicPr>
        <p:blipFill>
          <a:blip r:embed="rId1"/>
          <a:stretch/>
        </p:blipFill>
        <p:spPr>
          <a:xfrm>
            <a:off x="687240" y="4648320"/>
            <a:ext cx="7769520" cy="927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best Lewis structure…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s the one with the fewest charg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uts a negative charge on the most electronegative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66" name="Picture 11" descr="Withoutcharges"/>
          <p:cNvPicPr/>
          <p:nvPr/>
        </p:nvPicPr>
        <p:blipFill>
          <a:blip r:embed="rId2"/>
          <a:stretch/>
        </p:blipFill>
        <p:spPr>
          <a:xfrm>
            <a:off x="685800" y="4648320"/>
            <a:ext cx="7772400" cy="927000"/>
          </a:xfrm>
          <a:prstGeom prst="rect">
            <a:avLst/>
          </a:prstGeom>
          <a:ln w="0">
            <a:noFill/>
          </a:ln>
        </p:spPr>
      </p:pic>
      <p:sp>
        <p:nvSpPr>
          <p:cNvPr id="167" name="Oval 13"/>
          <p:cNvSpPr/>
          <p:nvPr/>
        </p:nvSpPr>
        <p:spPr>
          <a:xfrm>
            <a:off x="6172200" y="4876920"/>
            <a:ext cx="2362320" cy="838080"/>
          </a:xfrm>
          <a:prstGeom prst="ellipse">
            <a:avLst/>
          </a:prstGeom>
          <a:noFill/>
          <a:ln w="19080">
            <a:solidFill>
              <a:srgbClr val="c82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is the Lewis structure we would draw for ozone, 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71" name="Picture 7" descr="ozone"/>
          <p:cNvPicPr/>
          <p:nvPr/>
        </p:nvPicPr>
        <p:blipFill>
          <a:blip r:embed="rId1"/>
          <a:stretch/>
        </p:blipFill>
        <p:spPr>
          <a:xfrm>
            <a:off x="4876920" y="2209680"/>
            <a:ext cx="3582720" cy="1835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8"/>
          <p:cNvSpPr/>
          <p:nvPr/>
        </p:nvSpPr>
        <p:spPr>
          <a:xfrm>
            <a:off x="5106600" y="36115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6497640" y="1981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ut this is at odds with the true, observed structure of ozone, in which…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both O-O bonds are the same length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both outer oxygens have a charge of -1/2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77" name="Picture 5" descr="08_11"/>
          <p:cNvPicPr/>
          <p:nvPr/>
        </p:nvPicPr>
        <p:blipFill>
          <a:blip r:embed="rId1"/>
          <a:srcRect l="0" t="0" r="0" b="3074"/>
          <a:stretch/>
        </p:blipFill>
        <p:spPr>
          <a:xfrm>
            <a:off x="533520" y="1600200"/>
            <a:ext cx="297972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e Lewis structure cannot accurately depict a molecule like ozon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use multiple structures, resonance structures, to describe the molecul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81" name="Picture 5" descr="Resonance"/>
          <p:cNvPicPr/>
          <p:nvPr/>
        </p:nvPicPr>
        <p:blipFill>
          <a:blip r:embed="rId1"/>
          <a:stretch/>
        </p:blipFill>
        <p:spPr>
          <a:xfrm>
            <a:off x="4724280" y="3429000"/>
            <a:ext cx="3810240" cy="1427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657240" y="21337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Just as green is a synthesis of blue and yellow…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zone is a synthesis of these two resonance structur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85" name="Picture 10" descr="Resonance3"/>
          <p:cNvPicPr/>
          <p:nvPr/>
        </p:nvPicPr>
        <p:blipFill>
          <a:blip r:embed="rId1"/>
          <a:stretch/>
        </p:blipFill>
        <p:spPr>
          <a:xfrm>
            <a:off x="609480" y="1600200"/>
            <a:ext cx="2614680" cy="5027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Resonance4"/>
          <p:cNvPicPr/>
          <p:nvPr/>
        </p:nvPicPr>
        <p:blipFill>
          <a:blip r:embed="rId2"/>
          <a:stretch/>
        </p:blipFill>
        <p:spPr>
          <a:xfrm>
            <a:off x="609480" y="1600200"/>
            <a:ext cx="2614680" cy="502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truth, the electrons that form the second C-O bond in the double bonds below do not always sit between that C and that O, but rather can move among the two oxygens and the carb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are not </a:t>
            </a:r>
            <a:r>
              <a:rPr b="0" lang="en-US" sz="2800" spc="-1" strike="noStrike">
                <a:solidFill>
                  <a:srgbClr val="001964"/>
                </a:solidFill>
                <a:latin typeface="Arial"/>
              </a:rPr>
              <a:t>localize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; they are </a:t>
            </a:r>
            <a:r>
              <a:rPr b="0" lang="en-US" sz="2800" spc="-1" strike="noStrike">
                <a:solidFill>
                  <a:srgbClr val="001964"/>
                </a:solidFill>
                <a:latin typeface="Arial"/>
              </a:rPr>
              <a:t>delocalize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0" name="Picture 7" descr="08_12-04UNEx8-10"/>
          <p:cNvPicPr/>
          <p:nvPr/>
        </p:nvPicPr>
        <p:blipFill>
          <a:blip r:embed="rId1"/>
          <a:srcRect l="0" t="0" r="0" b="7690"/>
          <a:stretch/>
        </p:blipFill>
        <p:spPr>
          <a:xfrm>
            <a:off x="1125360" y="4572000"/>
            <a:ext cx="68932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Ionic Bonding</a:t>
            </a:r>
            <a:endParaRPr b="0" lang="en-US" sz="6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organic compound benzene, C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has two resonance structur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commonly depicted as a hexagon with a circle inside to signify the delocalized electrons in the ring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4" name="Picture 8" descr="08_13-01UN"/>
          <p:cNvPicPr/>
          <p:nvPr/>
        </p:nvPicPr>
        <p:blipFill>
          <a:blip r:embed="rId1"/>
          <a:srcRect l="0" t="0" r="0" b="5767"/>
          <a:stretch/>
        </p:blipFill>
        <p:spPr>
          <a:xfrm>
            <a:off x="533520" y="2749680"/>
            <a:ext cx="4038480" cy="1593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08_13-02UN"/>
          <p:cNvPicPr/>
          <p:nvPr/>
        </p:nvPicPr>
        <p:blipFill>
          <a:blip r:embed="rId2"/>
          <a:srcRect l="0" t="0" r="0" b="12833"/>
          <a:stretch/>
        </p:blipFill>
        <p:spPr>
          <a:xfrm>
            <a:off x="228600" y="5586480"/>
            <a:ext cx="5334120" cy="100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xceptions to the Octet Ru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 are three types of ions or molecules that do not follow the octet rule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ons or molecules with an odd number of electrons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ons or molecules with less than an octet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ons or molecules with more than eight valence electrons (an expanded octet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Odd Number of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ough relatively rare and usually quite unstable and reactive, there are ions and molecules with an odd number of elec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02" name="Picture 12" descr="08_13-04UN"/>
          <p:cNvPicPr/>
          <p:nvPr/>
        </p:nvPicPr>
        <p:blipFill>
          <a:blip r:embed="rId1"/>
          <a:srcRect l="0" t="0" r="0" b="14942"/>
          <a:stretch/>
        </p:blipFill>
        <p:spPr>
          <a:xfrm>
            <a:off x="685800" y="4114800"/>
            <a:ext cx="7772400" cy="111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ewer Than Eight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onsider BF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Giving boron a filled octet places a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charge on the boron and a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positiv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charge on fluorin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would not be an accurate picture of the distribution of electrons in BF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06" name="Picture 5" descr="08_13-06UN"/>
          <p:cNvPicPr/>
          <p:nvPr/>
        </p:nvPicPr>
        <p:blipFill>
          <a:blip r:embed="rId1"/>
          <a:srcRect l="0" t="0" r="0" b="11538"/>
          <a:stretch/>
        </p:blipFill>
        <p:spPr>
          <a:xfrm>
            <a:off x="849240" y="1752480"/>
            <a:ext cx="7443720" cy="175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ewer Than Eight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structures that put a double bond between boron and fluorine are much less important than the one that leaves boron with only 6 valence elec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0" name="Picture 5" descr="08_13-07UN"/>
          <p:cNvPicPr/>
          <p:nvPr/>
        </p:nvPicPr>
        <p:blipFill>
          <a:blip r:embed="rId1"/>
          <a:srcRect l="0" t="0" r="0" b="11539"/>
          <a:stretch/>
        </p:blipFill>
        <p:spPr>
          <a:xfrm>
            <a:off x="1047600" y="4343400"/>
            <a:ext cx="704700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ewer Than Eight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lesson is:  if filling the octet of the central atom results in a negative charge on the central atom and a positive charge on the more electronegative outer atom, don’t fill the octet of the central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4" name="Picture 4" descr="08_13-07UN"/>
          <p:cNvPicPr/>
          <p:nvPr/>
        </p:nvPicPr>
        <p:blipFill>
          <a:blip r:embed="rId1"/>
          <a:srcRect l="0" t="0" r="0" b="11539"/>
          <a:stretch/>
        </p:blipFill>
        <p:spPr>
          <a:xfrm>
            <a:off x="1047600" y="4343400"/>
            <a:ext cx="704700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ore Than Eight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4267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only way PCl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can exist is if phosphorus has 10 electrons around i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allowed to expand the octet of atoms on the 3rd row or below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Presumably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orbitals in these atoms participate in bonding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8" name="Picture 5" descr="08_13-09UN"/>
          <p:cNvPicPr/>
          <p:nvPr/>
        </p:nvPicPr>
        <p:blipFill>
          <a:blip r:embed="rId1"/>
          <a:srcRect l="0" t="0" r="0" b="4345"/>
          <a:stretch/>
        </p:blipFill>
        <p:spPr>
          <a:xfrm>
            <a:off x="380880" y="211932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ore Than Eight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ven though we can draw a Lewis structure for the phosphate ion that has only 8 electrons around the central phosphorus, the better structure puts a double bond between the phosphorus and one of the oxyge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2" name="Picture 5" descr="08_13-14UN"/>
          <p:cNvPicPr/>
          <p:nvPr/>
        </p:nvPicPr>
        <p:blipFill>
          <a:blip r:embed="rId1"/>
          <a:srcRect l="0" t="0" r="0" b="7583"/>
          <a:stretch/>
        </p:blipFill>
        <p:spPr>
          <a:xfrm>
            <a:off x="1541520" y="4187880"/>
            <a:ext cx="60609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ore Than Eight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eliminates the charge on the phosphorus and the charge on one of the oxyge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lesson is:  when the central atom in on the 3rd row or below and expanding its octet eliminates some formal charges, do so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6" name="Picture 4" descr="08_13-14UN"/>
          <p:cNvPicPr/>
          <p:nvPr/>
        </p:nvPicPr>
        <p:blipFill>
          <a:blip r:embed="rId1"/>
          <a:srcRect l="0" t="0" r="0" b="7583"/>
          <a:stretch/>
        </p:blipFill>
        <p:spPr>
          <a:xfrm>
            <a:off x="1541520" y="4187880"/>
            <a:ext cx="60609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ovalent Bond Strengt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ost simply, the strength of a bond is measured by determining how much energy is required to break the bon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is the </a:t>
            </a:r>
            <a:r>
              <a:rPr b="0" lang="en-US" sz="2800" spc="-1" strike="noStrike">
                <a:solidFill>
                  <a:srgbClr val="001964"/>
                </a:solidFill>
                <a:latin typeface="Arial"/>
              </a:rPr>
              <a:t>bond enthalpy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bond enthalpy for a Cl-Cl bond,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(Cl-Cl), is measured to be 242 kJ/mol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0" name="Picture 5" descr="08_13-15UN"/>
          <p:cNvPicPr/>
          <p:nvPr/>
        </p:nvPicPr>
        <p:blipFill>
          <a:blip r:embed="rId1"/>
          <a:srcRect l="0" t="0" r="0" b="22773"/>
          <a:stretch/>
        </p:blipFill>
        <p:spPr>
          <a:xfrm>
            <a:off x="685800" y="1828800"/>
            <a:ext cx="7772400" cy="866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etics of Ionic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we saw in the last chapter, it takes 495 kJ/mol to remove electrons from sodiu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6" name="Picture 9" descr="07_T02IE"/>
          <p:cNvPicPr/>
          <p:nvPr/>
        </p:nvPicPr>
        <p:blipFill>
          <a:blip r:embed="rId1"/>
          <a:stretch/>
        </p:blipFill>
        <p:spPr>
          <a:xfrm>
            <a:off x="685800" y="2916360"/>
            <a:ext cx="3809880" cy="224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verage Bond Enthalp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table lists the average bond enthalpies for many different types of bond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verage bond enthalpies are positive, because bond breaking is an endothermic proces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4" name="Picture 8" descr="08_T04"/>
          <p:cNvPicPr/>
          <p:nvPr/>
        </p:nvPicPr>
        <p:blipFill>
          <a:blip r:embed="rId1"/>
          <a:srcRect l="0" t="0" r="0" b="4892"/>
          <a:stretch/>
        </p:blipFill>
        <p:spPr>
          <a:xfrm>
            <a:off x="4038480" y="1504800"/>
            <a:ext cx="4724640" cy="40579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9"/>
          <p:cNvSpPr/>
          <p:nvPr/>
        </p:nvSpPr>
        <p:spPr>
          <a:xfrm>
            <a:off x="4114800" y="1546200"/>
            <a:ext cx="685800" cy="152280"/>
          </a:xfrm>
          <a:prstGeom prst="rect">
            <a:avLst/>
          </a:prstGeom>
          <a:solidFill>
            <a:srgbClr val="007cb2"/>
          </a:solidFill>
          <a:ln w="9360">
            <a:solidFill>
              <a:srgbClr val="00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verage Bond Enthalp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OTE:  These ar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averag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bond enthalpies, not absolute bond enthalpies; the C-H bonds in methane, C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will be a bit different than the C-H bond in chloroform, CHCl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9" name="Picture 4" descr="08_T04"/>
          <p:cNvPicPr/>
          <p:nvPr/>
        </p:nvPicPr>
        <p:blipFill>
          <a:blip r:embed="rId1"/>
          <a:srcRect l="0" t="0" r="0" b="4892"/>
          <a:stretch/>
        </p:blipFill>
        <p:spPr>
          <a:xfrm>
            <a:off x="4038480" y="1504800"/>
            <a:ext cx="4724640" cy="4057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"/>
          <p:cNvSpPr/>
          <p:nvPr/>
        </p:nvSpPr>
        <p:spPr>
          <a:xfrm>
            <a:off x="4114800" y="1546200"/>
            <a:ext cx="685800" cy="152280"/>
          </a:xfrm>
          <a:prstGeom prst="rect">
            <a:avLst/>
          </a:prstGeom>
          <a:solidFill>
            <a:srgbClr val="007cb2"/>
          </a:solidFill>
          <a:ln w="9360">
            <a:solidFill>
              <a:srgbClr val="00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thalpies of Rea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267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Yet another way to estimate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a reaction is to compare the bond enthalpies of bonds broken to the bond enthalpies of the new bonds form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4" name="Picture 5" descr="08_14"/>
          <p:cNvPicPr/>
          <p:nvPr/>
        </p:nvPicPr>
        <p:blipFill>
          <a:blip r:embed="rId1"/>
          <a:srcRect l="0" t="0" r="0" b="3723"/>
          <a:stretch/>
        </p:blipFill>
        <p:spPr>
          <a:xfrm>
            <a:off x="4572000" y="1839960"/>
            <a:ext cx="4267080" cy="37288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228600" y="5353200"/>
            <a:ext cx="74008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other wor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rx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(bond enthalpies of bonds broken)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(bond enthalpies of bonds form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thalpies of Rea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l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HCl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this example, one C-H bond and one Cl-Cl bond are broken; one C-Cl and one H-Cl bond are form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9" name="Picture 4" descr="08_14"/>
          <p:cNvPicPr/>
          <p:nvPr/>
        </p:nvPicPr>
        <p:blipFill>
          <a:blip r:embed="rId1"/>
          <a:srcRect l="0" t="0" r="0" b="3723"/>
          <a:stretch/>
        </p:blipFill>
        <p:spPr>
          <a:xfrm>
            <a:off x="4572000" y="1839960"/>
            <a:ext cx="4267080" cy="372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thalpies of Rea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0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o,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690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[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C-H) +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Cl-Cl)] - [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C-Cl) +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H-Cl)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690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[(413 kJ) + (242 kJ)] - [(328 kJ) + (431 kJ)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690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(655 kJ) - (759 kJ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690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-104 kJ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ond Enthalpy and Bond Lengt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can also measure an average bond length for different bond typ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the number of bonds between two atoms increases, the bond length decrea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6" name="Picture 10" descr="08_T05"/>
          <p:cNvPicPr/>
          <p:nvPr/>
        </p:nvPicPr>
        <p:blipFill>
          <a:blip r:embed="rId1"/>
          <a:srcRect l="0" t="8449" r="0" b="7038"/>
          <a:stretch/>
        </p:blipFill>
        <p:spPr>
          <a:xfrm>
            <a:off x="1746360" y="1752480"/>
            <a:ext cx="5651280" cy="2286000"/>
          </a:xfrm>
          <a:prstGeom prst="rect">
            <a:avLst/>
          </a:prstGeom>
          <a:ln w="0">
            <a:noFill/>
          </a:ln>
        </p:spPr>
      </p:pic>
      <p:sp>
        <p:nvSpPr>
          <p:cNvPr id="257" name="Line 11"/>
          <p:cNvSpPr/>
          <p:nvPr/>
        </p:nvSpPr>
        <p:spPr>
          <a:xfrm>
            <a:off x="2666880" y="1762200"/>
            <a:ext cx="4114800" cy="0"/>
          </a:xfrm>
          <a:prstGeom prst="line">
            <a:avLst/>
          </a:prstGeom>
          <a:ln w="25560">
            <a:solidFill>
              <a:srgbClr val="00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etics of Ionic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get 349 kJ/mol back by giving electrons to chlorin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0" name="Picture 7" descr="07_12EA"/>
          <p:cNvPicPr/>
          <p:nvPr/>
        </p:nvPicPr>
        <p:blipFill>
          <a:blip r:embed="rId1"/>
          <a:stretch/>
        </p:blipFill>
        <p:spPr>
          <a:xfrm>
            <a:off x="4764240" y="1981080"/>
            <a:ext cx="35766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etics of Ionic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ut these numbers don’t explain why the reaction of sodium metal and chlorine gas to form sodium chloride is so exothermic!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4" name="Picture 5" descr="08_02cropped"/>
          <p:cNvPicPr/>
          <p:nvPr/>
        </p:nvPicPr>
        <p:blipFill>
          <a:blip r:embed="rId1"/>
          <a:stretch/>
        </p:blipFill>
        <p:spPr>
          <a:xfrm>
            <a:off x="0" y="2003400"/>
            <a:ext cx="525780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etics of Ionic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 must be a third piece to the puzzl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at is as yet unaccounted for is the electrostatic attraction between the newly-formed sodium cation and chloride an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8" name="Picture 6" descr="02_21-02UN"/>
          <p:cNvPicPr/>
          <p:nvPr/>
        </p:nvPicPr>
        <p:blipFill>
          <a:blip r:embed="rId1"/>
          <a:srcRect l="0" t="0" r="0" b="5610"/>
          <a:stretch/>
        </p:blipFill>
        <p:spPr>
          <a:xfrm>
            <a:off x="4191120" y="1752480"/>
            <a:ext cx="4278240" cy="2008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02_21-03UN"/>
          <p:cNvPicPr/>
          <p:nvPr/>
        </p:nvPicPr>
        <p:blipFill>
          <a:blip r:embed="rId2"/>
          <a:srcRect l="0" t="0" r="0" b="6976"/>
          <a:stretch/>
        </p:blipFill>
        <p:spPr>
          <a:xfrm>
            <a:off x="4191120" y="3733920"/>
            <a:ext cx="4653000" cy="2008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Lattice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third piece of the puzzle is the 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lattice energy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The energy required to completely separate a mole of a solid ionic compound into its gaseous i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nergy associated with electrostatic interactions is governed by Coulomb’s law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83" name="Group 9"/>
          <p:cNvGrpSpPr/>
          <p:nvPr/>
        </p:nvGrpSpPr>
        <p:grpSpPr>
          <a:xfrm>
            <a:off x="3366360" y="5181480"/>
            <a:ext cx="2466000" cy="1136160"/>
            <a:chOff x="3366360" y="5181480"/>
            <a:chExt cx="2466000" cy="1136160"/>
          </a:xfrm>
        </p:grpSpPr>
        <p:sp>
          <p:nvSpPr>
            <p:cNvPr id="84" name="Rectangle 5"/>
            <p:cNvSpPr/>
            <p:nvPr/>
          </p:nvSpPr>
          <p:spPr>
            <a:xfrm>
              <a:off x="3366360" y="5425920"/>
              <a:ext cx="132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E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el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8"/>
            <p:cNvGrpSpPr/>
            <p:nvPr/>
          </p:nvGrpSpPr>
          <p:grpSpPr>
            <a:xfrm>
              <a:off x="4689360" y="5181480"/>
              <a:ext cx="1143000" cy="1136160"/>
              <a:chOff x="4689360" y="5181480"/>
              <a:chExt cx="1143000" cy="1136160"/>
            </a:xfrm>
          </p:grpSpPr>
          <p:sp>
            <p:nvSpPr>
              <p:cNvPr id="86" name="Rectangle 6"/>
              <p:cNvSpPr/>
              <p:nvPr/>
            </p:nvSpPr>
            <p:spPr>
              <a:xfrm>
                <a:off x="4737960" y="5181480"/>
                <a:ext cx="103104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Times New Roman"/>
                  </a:rPr>
                  <a:t>Q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1</a:t>
                </a:r>
                <a:r>
                  <a:rPr b="0" i="1" lang="en-US" sz="3200" spc="-1" strike="noStrike">
                    <a:solidFill>
                      <a:srgbClr val="c82e32"/>
                    </a:solidFill>
                    <a:latin typeface="Times New Roman"/>
                  </a:rPr>
                  <a:t>Q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7"/>
              <p:cNvSpPr/>
              <p:nvPr/>
            </p:nvSpPr>
            <p:spPr>
              <a:xfrm>
                <a:off x="4689360" y="5773680"/>
                <a:ext cx="114300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Lattice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320" y="19047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Lattice energy, then, increases with the charge on the i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76320" y="289548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also increases with decreasing size of 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08_T02"/>
          <p:cNvPicPr/>
          <p:nvPr/>
        </p:nvPicPr>
        <p:blipFill>
          <a:blip r:embed="rId1"/>
          <a:srcRect l="0" t="8402" r="0" b="3932"/>
          <a:stretch/>
        </p:blipFill>
        <p:spPr>
          <a:xfrm>
            <a:off x="3581280" y="2590920"/>
            <a:ext cx="487692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3:14:25Z</dcterms:created>
  <dc:creator>John Bookstaver</dc:creator>
  <dc:description/>
  <dc:language>en-US</dc:language>
  <cp:lastModifiedBy>Windows User</cp:lastModifiedBy>
  <dcterms:modified xsi:type="dcterms:W3CDTF">2012-03-20T11:52:05Z</dcterms:modified>
  <cp:revision>54</cp:revision>
  <dc:subject/>
  <dc:title>Chapter 8 Concepts of Chemical Bonding</dc:title>
</cp:coreProperties>
</file>